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3F275-A5AE-402E-8FC4-E40CA7071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DC8A1-68CC-4B47-A804-2E076D51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04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64B9B-AADC-4931-AE53-836B7070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C4030-0893-40E4-B05A-52631A08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AC863-20E2-4D7E-9DD2-9F6DD08C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ABDCA-7AF1-4A6D-986D-DC46E1BA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544E8-BB93-426E-A6BE-E1DA5AEA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B02D0-1DB9-4A37-824E-29B85F29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15732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7E0A1-7B3D-40B5-955F-5E1248CC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904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319D0-50E0-4C36-9E0E-0DC0CD3D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C7090-0458-42F7-A3D8-F94DCD5A9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1880" y="442404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4B798-AD18-4DE8-AAC0-531D6F89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E8230-99F3-4D7B-A836-651CD430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E3D91-BD6A-4850-8ACA-88F308AE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5651A-16F0-4EBA-A1B6-0DB4326A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0480" y="4500720"/>
            <a:ext cx="56167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8A6F9-44A1-4DB9-896A-3CA5A425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D4B-0710-4837-B182-BC0064AB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1B9-58AD-4439-A4F4-7702E8B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936-0673-4587-BFC5-576FECD3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340-C0E1-46EC-BCAD-9442FAF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957-FF88-442F-A037-1815FFB9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DDD-A080-4658-A291-E97E91F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5B0-68B2-4583-B30D-5766FFD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332-1EB8-41CC-AD14-2D921A6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CDA-39C6-4421-A954-3F00670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8C3-378F-485C-B233-3CA4EE4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A19-AEFA-465A-B2E0-EC4E233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059-F2C7-4AA4-9628-19D21EF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946-69F2-4779-9AA9-EA43A678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OLOGICAL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Cj02322680000[1]"/>
          <p:cNvPicPr/>
          <p:nvPr/>
        </p:nvPicPr>
        <p:blipFill>
          <a:blip r:embed="rId1"/>
          <a:stretch/>
        </p:blipFill>
        <p:spPr>
          <a:xfrm>
            <a:off x="65530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e categ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bl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 mani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MCj02322680000[1]"/>
          <p:cNvPicPr/>
          <p:nvPr/>
        </p:nvPicPr>
        <p:blipFill>
          <a:blip r:embed="rId1"/>
          <a:stretch/>
        </p:blipFill>
        <p:spPr>
          <a:xfrm>
            <a:off x="6248520" y="44956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an auditory sk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Cj0232268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173196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990720" y="35053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honic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dds prin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ic awareness is best taught in small grou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from easier activities (sound matching) to blending, segmenting and mani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gin with short words (2-3 phonemes: at, mu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MCj02322680000[1]"/>
          <p:cNvPicPr/>
          <p:nvPr/>
        </p:nvPicPr>
        <p:blipFill>
          <a:blip r:embed="rId1"/>
          <a:stretch/>
        </p:blipFill>
        <p:spPr>
          <a:xfrm>
            <a:off x="7162920" y="487692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cus first on initial, than final and lastly medial so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 letter-sound correspondence instruction after children demonstrate early phonemic awaren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Cj02322680000[1]"/>
          <p:cNvPicPr/>
          <p:nvPr/>
        </p:nvPicPr>
        <p:blipFill>
          <a:blip r:embed="rId1"/>
          <a:stretch/>
        </p:blipFill>
        <p:spPr>
          <a:xfrm>
            <a:off x="70102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vide brief instructional ses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 each activity and provide lots of pract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 that instruction in Phonemic Awareness is only one element of a comprehensive reading pr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it F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ing and Language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ad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 demonstrates phonological awareness (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 demonst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mic awareness (K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honological Awarenes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sensitivity to, or explicit awareness of, any aspect of phonological structure in language.  It encompasses awareness of individual words in sentences, syllables, and onset-rime segments, as well as awareness of individual speech sounds (phonem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ological Awarenes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ll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sets and R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hon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the ability to notice, think about, or manipulate the individual sounds i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Cj02322680000[1]"/>
          <p:cNvPicPr/>
          <p:nvPr/>
        </p:nvPicPr>
        <p:blipFill>
          <a:blip r:embed="rId1"/>
          <a:stretch/>
        </p:blipFill>
        <p:spPr>
          <a:xfrm>
            <a:off x="6858000" y="441972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earch over the past 20 years suggests that it is necessary for students to understand and master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order to become good read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MCj02322680000[1]"/>
          <p:cNvPicPr/>
          <p:nvPr/>
        </p:nvPicPr>
        <p:blipFill>
          <a:blip r:embed="rId1"/>
          <a:stretch/>
        </p:blipFill>
        <p:spPr>
          <a:xfrm>
            <a:off x="6629400" y="48006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honemic Awaren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an important skill because it strongly supports learning how the words in our language are represented in pri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Cj02322680000[1]"/>
          <p:cNvPicPr/>
          <p:nvPr/>
        </p:nvPicPr>
        <p:blipFill>
          <a:blip r:embed="rId1"/>
          <a:stretch/>
        </p:blipFill>
        <p:spPr>
          <a:xfrm>
            <a:off x="655308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lish is an alphabetic language.  The words in our language are represented roughly at the level of phonem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029200" y="50292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48006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-a-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447920" y="54864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9" descr="MCj02322680000[1]"/>
          <p:cNvPicPr/>
          <p:nvPr/>
        </p:nvPicPr>
        <p:blipFill>
          <a:blip r:embed="rId1"/>
          <a:stretch/>
        </p:blipFill>
        <p:spPr>
          <a:xfrm>
            <a:off x="6248520" y="457200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Sounds-Sounds-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mount to teaching phonemic awareness is the ability to say the sounds of the letters correct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Cj02322680000[1]"/>
          <p:cNvPicPr/>
          <p:nvPr/>
        </p:nvPicPr>
        <p:blipFill>
          <a:blip r:embed="rId1"/>
          <a:stretch/>
        </p:blipFill>
        <p:spPr>
          <a:xfrm>
            <a:off x="7086600" y="4724280"/>
            <a:ext cx="1731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35:04Z</dcterms:created>
  <dc:creator>Mary King</dc:creator>
  <dc:description/>
  <dc:language>en-US</dc:language>
  <cp:lastModifiedBy>ECSD</cp:lastModifiedBy>
  <dcterms:modified xsi:type="dcterms:W3CDTF">2010-04-16T17:20:18Z</dcterms:modified>
  <cp:revision>16</cp:revision>
  <dc:subject/>
  <dc:title>PHONEMIC AWARENESS</dc:title>
</cp:coreProperties>
</file>